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3AAA-8ACE-40ED-947E-EAF82BA99A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CB95-F843-4076-9AFB-06605AE6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4964-BBB0-402C-AF09-A9D9BE49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FEF4-C5B2-4C55-8C5C-B96613AE9A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28D1-342E-49F6-A68A-13CB82AF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1909-8CB6-47A4-B128-FA3AD509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E98D-2067-43E9-87FE-D0F0E32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9477-981D-4B95-842F-18E66D6C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FDCA-D835-42C9-88DD-CDBDC289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1B14-293E-4ADB-AF2C-1D1561EC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3D66-F0D9-4687-8780-0B55FCCA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A027-2029-4548-AFF8-7C26B2F5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SE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010-09-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SE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794F93-A006-456C-A0D4-C8712C13AB63}" type="slidenum">
              <a:rPr b="0" lang="sv-S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4464000" cy="544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38320" y="6348240"/>
            <a:ext cx="5040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embrandt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Självporträtt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(16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60280"/>
            <a:ext cx="7201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Del I - Rembrandt Harmensz van Rij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969080" cy="6086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361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embrandt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Kökspigan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(1651) – sidan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604040" cy="607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92360" y="638172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embrandt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Hendrickje badar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(1654) – sidan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77160" cy="6075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04960" y="6373800"/>
            <a:ext cx="575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embrandt , 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Den polske ryttaren 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(1655) – sidan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96120" cy="612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embrandt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Nattvakten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(1642) – sidorna 63 och 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9120" y="272880"/>
            <a:ext cx="8151840" cy="604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3216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Caravaggio, The Denial of Saint Peter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 (1610) – sidan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7907400" cy="57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8560" y="611352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0520" y="6016680"/>
            <a:ext cx="81356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Amsterdams kanaler – sidan 52 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Foto: Bachrach44 på commons.wikimedia 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